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29C-5126-46EF-AC32-4D7E57AF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FAD-3BE8-415D-90CB-272CFD2B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755-C6E1-43A4-803F-B943C932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7348-D0F8-4B19-81B9-5A865BBC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0127-9876-44D7-B799-338B8047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EEE1-2A9F-4B4D-8A31-2C3435E3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D860-8FBC-4AA0-BB46-CDB2125E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9693-1DB9-4312-869A-0BD2741F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D532-2906-41FC-9492-7A613FDE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1151-4483-430C-A479-733E2A3B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2845-909D-4DAC-ACF7-88807A8E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33C-BC35-406B-AEAD-60706F5B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441D-B72B-463E-AD12-F624F93B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2A77-A38B-41D2-A8C1-B3F9C9FA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2AA4-5771-48FA-9809-53B3A251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07DC-6EE1-41AB-9E95-6047BA45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8791-10E5-447A-B610-F386341B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16E-C938-4D22-9AC2-5CEA69BD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B2F-8808-4EEC-8AE7-9FA89A0D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E58-D71D-4D06-B790-78FF64BB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1F7-530C-40E1-87D9-D1A89C36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D7C-2544-4D9E-9A12-A554BBEB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FB9-A788-41F1-B7C0-4AC92F13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0EB-9DB3-4EB9-8CCF-1D27AB47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93A4-1B6D-4FE4-8A45-51D53D83B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4421-40B3-4C4A-9005-D7648ECD3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b Equipmen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Know what you are working with…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9" name="Picture 37" descr=""/>
          <p:cNvPicPr/>
          <p:nvPr/>
        </p:nvPicPr>
        <p:blipFill>
          <a:blip r:embed="rId1"/>
          <a:stretch/>
        </p:blipFill>
        <p:spPr>
          <a:xfrm>
            <a:off x="914400" y="-41400"/>
            <a:ext cx="8229600" cy="69328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1219320" y="609480"/>
            <a:ext cx="1295280" cy="152424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819520" y="380880"/>
            <a:ext cx="1752480" cy="190512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133720" y="4800600"/>
            <a:ext cx="5257800" cy="68580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438280" y="6324480"/>
            <a:ext cx="5257800" cy="53352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Picture 30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1066680" y="1905120"/>
            <a:ext cx="3886200" cy="838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66680" y="2895480"/>
            <a:ext cx="3886200" cy="83844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66680" y="3886200"/>
            <a:ext cx="3886200" cy="838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066680" y="4876920"/>
            <a:ext cx="3886200" cy="838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019920" y="1371600"/>
            <a:ext cx="3124080" cy="17524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019920" y="5638680"/>
            <a:ext cx="3124080" cy="121932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Picture 47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914400" y="0"/>
            <a:ext cx="1600200" cy="3124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162920" y="0"/>
            <a:ext cx="1981080" cy="3124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543800" y="3276720"/>
            <a:ext cx="1600200" cy="1981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590920" y="5410080"/>
            <a:ext cx="2514600" cy="144792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14400" y="0"/>
            <a:ext cx="8229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1" name="Group 29"/>
          <p:cNvGrpSpPr/>
          <p:nvPr/>
        </p:nvGrpSpPr>
        <p:grpSpPr>
          <a:xfrm>
            <a:off x="918720" y="0"/>
            <a:ext cx="8224560" cy="6905520"/>
            <a:chOff x="918720" y="0"/>
            <a:chExt cx="8224560" cy="6905520"/>
          </a:xfrm>
        </p:grpSpPr>
        <p:pic>
          <p:nvPicPr>
            <p:cNvPr id="112" name="Picture 6" descr="http://www.howe.k12.ok.us/~jimaskew/burets.gif"/>
            <p:cNvPicPr/>
            <p:nvPr/>
          </p:nvPicPr>
          <p:blipFill>
            <a:blip r:embed="rId1"/>
            <a:srcRect l="0" t="0" r="78125" b="0"/>
            <a:stretch/>
          </p:blipFill>
          <p:spPr>
            <a:xfrm>
              <a:off x="1013400" y="0"/>
              <a:ext cx="691560" cy="29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7" descr="http://www.howe.k12.ok.us/~jimaskew/burets.gif"/>
            <p:cNvPicPr/>
            <p:nvPr/>
          </p:nvPicPr>
          <p:blipFill>
            <a:blip r:embed="rId2"/>
            <a:srcRect l="21429" t="27960" r="28363" b="35679"/>
            <a:stretch/>
          </p:blipFill>
          <p:spPr>
            <a:xfrm>
              <a:off x="4020480" y="1882800"/>
              <a:ext cx="1598040" cy="10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http://www.einsteins-emporium.com/science/chemistry/images/sc310-r1.gif"/>
            <p:cNvPicPr/>
            <p:nvPr/>
          </p:nvPicPr>
          <p:blipFill>
            <a:blip r:embed="rId3"/>
            <a:stretch/>
          </p:blipFill>
          <p:spPr>
            <a:xfrm>
              <a:off x="3344760" y="3861000"/>
              <a:ext cx="3430080" cy="24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5" descr="http://shop.chemassociates.com/shopsite/rasheman/media/dessicator2.gif"/>
            <p:cNvPicPr/>
            <p:nvPr/>
          </p:nvPicPr>
          <p:blipFill>
            <a:blip r:embed="rId4"/>
            <a:stretch/>
          </p:blipFill>
          <p:spPr>
            <a:xfrm>
              <a:off x="7362360" y="1677960"/>
              <a:ext cx="1780920" cy="12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25"/>
            <p:cNvSpPr/>
            <p:nvPr/>
          </p:nvSpPr>
          <p:spPr>
            <a:xfrm>
              <a:off x="918720" y="3117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1717"/>
                  </a:solidFill>
                  <a:latin typeface="Times New Roman"/>
                </a:rPr>
                <a:t>Buret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Text Box 26"/>
            <p:cNvSpPr/>
            <p:nvPr/>
          </p:nvSpPr>
          <p:spPr>
            <a:xfrm>
              <a:off x="3997080" y="3117600"/>
              <a:ext cx="164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1717"/>
                  </a:solidFill>
                  <a:latin typeface="Times New Roman"/>
                </a:rPr>
                <a:t>Double buret clamp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Text Box 27"/>
            <p:cNvSpPr/>
            <p:nvPr/>
          </p:nvSpPr>
          <p:spPr>
            <a:xfrm>
              <a:off x="7511760" y="311760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1717"/>
                  </a:solidFill>
                  <a:latin typeface="Times New Roman"/>
                </a:rPr>
                <a:t>Dessicator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Text Box 28"/>
            <p:cNvSpPr/>
            <p:nvPr/>
          </p:nvSpPr>
          <p:spPr>
            <a:xfrm>
              <a:off x="4105800" y="6537240"/>
              <a:ext cx="148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1717"/>
                  </a:solidFill>
                  <a:latin typeface="Times New Roman"/>
                </a:rPr>
                <a:t>Test tube rack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0" name="Rectangle 13"/>
          <p:cNvSpPr/>
          <p:nvPr/>
        </p:nvSpPr>
        <p:spPr>
          <a:xfrm>
            <a:off x="2895480" y="3809880"/>
            <a:ext cx="4114800" cy="304812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914400" y="0"/>
            <a:ext cx="8229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Picture 7" descr="test tube"/>
          <p:cNvPicPr/>
          <p:nvPr/>
        </p:nvPicPr>
        <p:blipFill>
          <a:blip r:embed="rId2"/>
          <a:stretch/>
        </p:blipFill>
        <p:spPr>
          <a:xfrm>
            <a:off x="1523880" y="3808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Petri Dish"/>
          <p:cNvPicPr/>
          <p:nvPr/>
        </p:nvPicPr>
        <p:blipFill>
          <a:blip r:embed="rId3"/>
          <a:stretch/>
        </p:blipFill>
        <p:spPr>
          <a:xfrm>
            <a:off x="1066680" y="3429000"/>
            <a:ext cx="2438640" cy="1736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triple beam balance"/>
          <p:cNvPicPr/>
          <p:nvPr/>
        </p:nvPicPr>
        <p:blipFill>
          <a:blip r:embed="rId4"/>
          <a:stretch/>
        </p:blipFill>
        <p:spPr>
          <a:xfrm>
            <a:off x="3809880" y="380880"/>
            <a:ext cx="3200400" cy="1470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afety goggles"/>
          <p:cNvPicPr/>
          <p:nvPr/>
        </p:nvPicPr>
        <p:blipFill>
          <a:blip r:embed="rId5"/>
          <a:stretch/>
        </p:blipFill>
        <p:spPr>
          <a:xfrm>
            <a:off x="6324480" y="2209680"/>
            <a:ext cx="243864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6"/>
          <a:stretch/>
        </p:blipFill>
        <p:spPr>
          <a:xfrm>
            <a:off x="4419720" y="4343400"/>
            <a:ext cx="2286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0"/>
            <a:ext cx="8229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4876920" y="3049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4"/>
          <a:stretch/>
        </p:blipFill>
        <p:spPr>
          <a:xfrm>
            <a:off x="1143000" y="37339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00:57:44Z</dcterms:created>
  <dc:creator>Adam Goosby</dc:creator>
  <dc:description/>
  <dc:language>en-US</dc:language>
  <cp:lastModifiedBy>ngoosby.pv</cp:lastModifiedBy>
  <dcterms:modified xsi:type="dcterms:W3CDTF">2010-08-12T14:32:55Z</dcterms:modified>
  <cp:revision>3</cp:revision>
  <dc:subject/>
  <dc:title>Lab Equipment</dc:title>
</cp:coreProperties>
</file>